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jpeg" ContentType="image/jpeg"/>
  <Override PartName="/ppt/media/image10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57C1C-F135-4A38-844C-0A5A979563FE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C656E-ADFB-4F64-85B6-48CAB3907080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62A68-B88D-44AF-8CBC-E75E34AA7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94920" y="2203200"/>
            <a:ext cx="8497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94920" y="4347720"/>
            <a:ext cx="8497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C843B-9847-4390-AC1F-628680E7D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94920" y="2203200"/>
            <a:ext cx="41468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9480" y="2203200"/>
            <a:ext cx="41468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94920" y="4347720"/>
            <a:ext cx="41468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49480" y="4347720"/>
            <a:ext cx="41468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42F27-A8C6-45E6-9AAD-8B3FB17C6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94920" y="2203200"/>
            <a:ext cx="27360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8080" y="2203200"/>
            <a:ext cx="27360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41240" y="2203200"/>
            <a:ext cx="27360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94920" y="4347720"/>
            <a:ext cx="27360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8080" y="4347720"/>
            <a:ext cx="27360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41240" y="4347720"/>
            <a:ext cx="27360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F0492-DE2E-42E6-9544-1D25CAC60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394920" y="2203200"/>
            <a:ext cx="849780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94920" y="2203200"/>
            <a:ext cx="84978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94920" y="2203200"/>
            <a:ext cx="41468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49480" y="2203200"/>
            <a:ext cx="41468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179280" y="188640"/>
            <a:ext cx="7056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94920" y="2203200"/>
            <a:ext cx="41468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49480" y="2203200"/>
            <a:ext cx="41468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394920" y="4347720"/>
            <a:ext cx="41468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94920" y="2203200"/>
            <a:ext cx="849780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04FDA-C47A-4673-8964-F49E2CCBE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94920" y="2203200"/>
            <a:ext cx="41468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9480" y="2203200"/>
            <a:ext cx="41468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749480" y="4347720"/>
            <a:ext cx="41468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94920" y="2203200"/>
            <a:ext cx="41468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9480" y="2203200"/>
            <a:ext cx="41468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94920" y="4347720"/>
            <a:ext cx="8497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94920" y="2203200"/>
            <a:ext cx="8497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94920" y="4347720"/>
            <a:ext cx="8497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94920" y="2203200"/>
            <a:ext cx="41468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49480" y="2203200"/>
            <a:ext cx="41468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94920" y="4347720"/>
            <a:ext cx="41468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749480" y="4347720"/>
            <a:ext cx="41468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94920" y="2203200"/>
            <a:ext cx="27360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68080" y="2203200"/>
            <a:ext cx="27360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141240" y="2203200"/>
            <a:ext cx="27360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394920" y="4347720"/>
            <a:ext cx="27360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68080" y="4347720"/>
            <a:ext cx="27360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141240" y="4347720"/>
            <a:ext cx="27360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94920" y="2203200"/>
            <a:ext cx="84978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A4E4C-D695-4D91-A10E-93DD37BA9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94920" y="2203200"/>
            <a:ext cx="41468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49480" y="2203200"/>
            <a:ext cx="41468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0BB6F-A0CA-4BB4-AE1D-AB762B286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18841-40C8-4C01-A068-610E68439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188640"/>
            <a:ext cx="7056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B6BBE-1EC8-42F8-8540-1BD0C6D6D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94920" y="2203200"/>
            <a:ext cx="41468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49480" y="2203200"/>
            <a:ext cx="41468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94920" y="4347720"/>
            <a:ext cx="41468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4499D-0C9A-45F6-885F-01F3D07B2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94920" y="2203200"/>
            <a:ext cx="41468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9480" y="2203200"/>
            <a:ext cx="41468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49480" y="4347720"/>
            <a:ext cx="41468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FB7BA-10E3-4806-B7CB-3A7353059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94920" y="2203200"/>
            <a:ext cx="41468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49480" y="2203200"/>
            <a:ext cx="41468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94920" y="4347720"/>
            <a:ext cx="8497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235C7-D151-4FC2-A014-0CD5CD79B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94920" y="2203200"/>
            <a:ext cx="84978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98560" y="6435720"/>
            <a:ext cx="116208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122200" y="6435720"/>
            <a:ext cx="52578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Professora Multiplicadora Luciana B. O. Catarin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86920" y="6435720"/>
            <a:ext cx="53964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37881-3E82-4847-99C8-CF78F0FF7C8B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94920" y="2203200"/>
            <a:ext cx="84978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..\cronograma 2&#186; semeste\Cronograma - PNTE.doc" TargetMode="External"/><Relationship Id="rId2" Type="http://schemas.openxmlformats.org/officeDocument/2006/relationships/hyperlink" Target="..\..\Visitas bimestrais\visita bimestral - Luciana\cronograma 2&#186; semeste\Cronograma - PSTE.doc" TargetMode="External"/><Relationship Id="rId3" Type="http://schemas.openxmlformats.org/officeDocument/2006/relationships/hyperlink" Target="Cronograma - completo.doc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CRONOGRAMA - fragelli.doc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57120" y="1196640"/>
            <a:ext cx="850104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EE DRº JOSÉ M. F. FRAGELLI  ANGÉLICA  - M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394920" y="4500720"/>
            <a:ext cx="8497800" cy="207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REUNIÃO SEMEST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JUNH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Espaço Reservado para Rodapé 3"/>
          <p:cNvSpPr/>
          <p:nvPr/>
        </p:nvSpPr>
        <p:spPr>
          <a:xfrm>
            <a:off x="2122560" y="643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 Ronilva de Araújo Pereir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3" descr=""/>
          <p:cNvPicPr/>
          <p:nvPr/>
        </p:nvPicPr>
        <p:blipFill>
          <a:blip r:embed="rId1"/>
          <a:stretch/>
        </p:blipFill>
        <p:spPr>
          <a:xfrm>
            <a:off x="285840" y="2000160"/>
            <a:ext cx="8497800" cy="1656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4" descr=""/>
          <p:cNvPicPr/>
          <p:nvPr/>
        </p:nvPicPr>
        <p:blipFill>
          <a:blip r:embed="rId2"/>
          <a:stretch/>
        </p:blipFill>
        <p:spPr>
          <a:xfrm>
            <a:off x="1357200" y="4357800"/>
            <a:ext cx="3629160" cy="13618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7" descr=""/>
          <p:cNvPicPr/>
          <p:nvPr/>
        </p:nvPicPr>
        <p:blipFill>
          <a:blip r:embed="rId3"/>
          <a:stretch/>
        </p:blipFill>
        <p:spPr>
          <a:xfrm>
            <a:off x="6643800" y="5286240"/>
            <a:ext cx="169524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VESPERTIN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94920" y="2203200"/>
            <a:ext cx="84978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MARÇO, ABRIL, MAIO E JUNH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OFESSOR MIRKO DONISETE RODRIGUES BARBO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Espaço Reservado para Rodapé 3"/>
          <p:cNvSpPr/>
          <p:nvPr/>
        </p:nvSpPr>
        <p:spPr>
          <a:xfrm>
            <a:off x="2122560" y="643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Ronilva de Araújo Pereir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MARÇ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Espaço Reservado para Rodapé 3"/>
          <p:cNvSpPr/>
          <p:nvPr/>
        </p:nvSpPr>
        <p:spPr>
          <a:xfrm>
            <a:off x="2122560" y="643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Ronilva de Araújo Pereir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CaixaDeTexto 5"/>
          <p:cNvSpPr/>
          <p:nvPr/>
        </p:nvSpPr>
        <p:spPr>
          <a:xfrm>
            <a:off x="1571760" y="5357880"/>
            <a:ext cx="50720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4" descr=""/>
          <p:cNvPicPr/>
          <p:nvPr/>
        </p:nvPicPr>
        <p:blipFill>
          <a:blip r:embed="rId1"/>
          <a:stretch/>
        </p:blipFill>
        <p:spPr>
          <a:xfrm>
            <a:off x="6715080" y="5286240"/>
            <a:ext cx="1695600" cy="7905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0" descr=""/>
          <p:cNvPicPr/>
          <p:nvPr/>
        </p:nvPicPr>
        <p:blipFill>
          <a:blip r:embed="rId2"/>
          <a:stretch/>
        </p:blipFill>
        <p:spPr>
          <a:xfrm>
            <a:off x="247680" y="2071800"/>
            <a:ext cx="8896320" cy="16952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1" descr=""/>
          <p:cNvPicPr/>
          <p:nvPr/>
        </p:nvPicPr>
        <p:blipFill>
          <a:blip r:embed="rId3"/>
          <a:stretch/>
        </p:blipFill>
        <p:spPr>
          <a:xfrm>
            <a:off x="785880" y="4357800"/>
            <a:ext cx="3638520" cy="136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ABRI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Espaço Reservado para Rodapé 3"/>
          <p:cNvSpPr/>
          <p:nvPr/>
        </p:nvSpPr>
        <p:spPr>
          <a:xfrm>
            <a:off x="2122560" y="643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Ronilva de Araújo Pereira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CaixaDeTexto 5"/>
          <p:cNvSpPr/>
          <p:nvPr/>
        </p:nvSpPr>
        <p:spPr>
          <a:xfrm>
            <a:off x="2857680" y="5214960"/>
            <a:ext cx="35715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4" descr=""/>
          <p:cNvPicPr/>
          <p:nvPr/>
        </p:nvPicPr>
        <p:blipFill>
          <a:blip r:embed="rId1"/>
          <a:stretch/>
        </p:blipFill>
        <p:spPr>
          <a:xfrm>
            <a:off x="6643800" y="5286240"/>
            <a:ext cx="1695240" cy="7905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9" descr=""/>
          <p:cNvPicPr/>
          <p:nvPr/>
        </p:nvPicPr>
        <p:blipFill>
          <a:blip r:embed="rId2"/>
          <a:stretch/>
        </p:blipFill>
        <p:spPr>
          <a:xfrm>
            <a:off x="333360" y="2000160"/>
            <a:ext cx="8810640" cy="16574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0" descr=""/>
          <p:cNvPicPr/>
          <p:nvPr/>
        </p:nvPicPr>
        <p:blipFill>
          <a:blip r:embed="rId3"/>
          <a:stretch/>
        </p:blipFill>
        <p:spPr>
          <a:xfrm>
            <a:off x="785880" y="4357800"/>
            <a:ext cx="3610080" cy="136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MAI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Espaço Reservado para Rodapé 3"/>
          <p:cNvSpPr/>
          <p:nvPr/>
        </p:nvSpPr>
        <p:spPr>
          <a:xfrm>
            <a:off x="2122560" y="643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Ronilva de Araújo Pereir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CaixaDeTexto 5"/>
          <p:cNvSpPr/>
          <p:nvPr/>
        </p:nvSpPr>
        <p:spPr>
          <a:xfrm>
            <a:off x="2428920" y="5357880"/>
            <a:ext cx="36432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4" descr=""/>
          <p:cNvPicPr/>
          <p:nvPr/>
        </p:nvPicPr>
        <p:blipFill>
          <a:blip r:embed="rId1"/>
          <a:stretch/>
        </p:blipFill>
        <p:spPr>
          <a:xfrm>
            <a:off x="6715080" y="5357880"/>
            <a:ext cx="1695600" cy="7905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9" descr=""/>
          <p:cNvPicPr/>
          <p:nvPr/>
        </p:nvPicPr>
        <p:blipFill>
          <a:blip r:embed="rId2"/>
          <a:stretch/>
        </p:blipFill>
        <p:spPr>
          <a:xfrm>
            <a:off x="214200" y="2286000"/>
            <a:ext cx="8929800" cy="18381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1" descr=""/>
          <p:cNvPicPr/>
          <p:nvPr/>
        </p:nvPicPr>
        <p:blipFill>
          <a:blip r:embed="rId3"/>
          <a:stretch/>
        </p:blipFill>
        <p:spPr>
          <a:xfrm>
            <a:off x="1000080" y="4500720"/>
            <a:ext cx="3591000" cy="139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JUNH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Espaço Reservado para Rodapé 3"/>
          <p:cNvSpPr/>
          <p:nvPr/>
        </p:nvSpPr>
        <p:spPr>
          <a:xfrm>
            <a:off x="2122560" y="643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Luciana B. O. Catari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2" descr=""/>
          <p:cNvPicPr/>
          <p:nvPr/>
        </p:nvPicPr>
        <p:blipFill>
          <a:blip r:embed="rId1"/>
          <a:stretch/>
        </p:blipFill>
        <p:spPr>
          <a:xfrm>
            <a:off x="285840" y="2214720"/>
            <a:ext cx="8497800" cy="16477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3" descr=""/>
          <p:cNvPicPr/>
          <p:nvPr/>
        </p:nvPicPr>
        <p:blipFill>
          <a:blip r:embed="rId2"/>
          <a:stretch/>
        </p:blipFill>
        <p:spPr>
          <a:xfrm>
            <a:off x="1000080" y="4286160"/>
            <a:ext cx="3648240" cy="13525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4" descr=""/>
          <p:cNvPicPr/>
          <p:nvPr/>
        </p:nvPicPr>
        <p:blipFill>
          <a:blip r:embed="rId3"/>
          <a:stretch/>
        </p:blipFill>
        <p:spPr>
          <a:xfrm>
            <a:off x="6715080" y="5357880"/>
            <a:ext cx="169560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NOTURN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285480" y="2214360"/>
            <a:ext cx="84978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MARÇO, ABRIL, MAIO E JUNH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ROFESSOR THIAGO DA SILVA NANTES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Espaço Reservado para Rodapé 3"/>
          <p:cNvSpPr/>
          <p:nvPr/>
        </p:nvSpPr>
        <p:spPr>
          <a:xfrm>
            <a:off x="2122560" y="643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Ronilva de Araújo Pereir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MARÇ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Espaço Reservado para Rodapé 3"/>
          <p:cNvSpPr/>
          <p:nvPr/>
        </p:nvSpPr>
        <p:spPr>
          <a:xfrm>
            <a:off x="2122560" y="643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Ronilva de Araújo Pereir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CaixaDeTexto 5"/>
          <p:cNvSpPr/>
          <p:nvPr/>
        </p:nvSpPr>
        <p:spPr>
          <a:xfrm>
            <a:off x="2643120" y="5286240"/>
            <a:ext cx="39290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" descr=""/>
          <p:cNvPicPr/>
          <p:nvPr/>
        </p:nvPicPr>
        <p:blipFill>
          <a:blip r:embed="rId1"/>
          <a:stretch/>
        </p:blipFill>
        <p:spPr>
          <a:xfrm>
            <a:off x="6572160" y="5286240"/>
            <a:ext cx="1695600" cy="7905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9" descr=""/>
          <p:cNvPicPr/>
          <p:nvPr/>
        </p:nvPicPr>
        <p:blipFill>
          <a:blip r:embed="rId2"/>
          <a:stretch/>
        </p:blipFill>
        <p:spPr>
          <a:xfrm>
            <a:off x="304920" y="2071800"/>
            <a:ext cx="8839080" cy="156204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0" descr=""/>
          <p:cNvPicPr/>
          <p:nvPr/>
        </p:nvPicPr>
        <p:blipFill>
          <a:blip r:embed="rId3"/>
          <a:stretch/>
        </p:blipFill>
        <p:spPr>
          <a:xfrm>
            <a:off x="928800" y="4214880"/>
            <a:ext cx="36194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ABRI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Espaço Reservado para Rodapé 3"/>
          <p:cNvSpPr/>
          <p:nvPr/>
        </p:nvSpPr>
        <p:spPr>
          <a:xfrm>
            <a:off x="2122560" y="643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Ronilva de Araújo Pereir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CaixaDeTexto 5"/>
          <p:cNvSpPr/>
          <p:nvPr/>
        </p:nvSpPr>
        <p:spPr>
          <a:xfrm>
            <a:off x="3357720" y="5357880"/>
            <a:ext cx="30002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4" descr=""/>
          <p:cNvPicPr/>
          <p:nvPr/>
        </p:nvPicPr>
        <p:blipFill>
          <a:blip r:embed="rId1"/>
          <a:stretch/>
        </p:blipFill>
        <p:spPr>
          <a:xfrm>
            <a:off x="6572160" y="5286240"/>
            <a:ext cx="1695600" cy="7905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9" descr=""/>
          <p:cNvPicPr/>
          <p:nvPr/>
        </p:nvPicPr>
        <p:blipFill>
          <a:blip r:embed="rId2"/>
          <a:stretch/>
        </p:blipFill>
        <p:spPr>
          <a:xfrm>
            <a:off x="214200" y="2071800"/>
            <a:ext cx="8744040" cy="156204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0" descr=""/>
          <p:cNvPicPr/>
          <p:nvPr/>
        </p:nvPicPr>
        <p:blipFill>
          <a:blip r:embed="rId3"/>
          <a:stretch/>
        </p:blipFill>
        <p:spPr>
          <a:xfrm>
            <a:off x="857160" y="4071960"/>
            <a:ext cx="3591000" cy="136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MAI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Espaço Reservado para Rodapé 3"/>
          <p:cNvSpPr/>
          <p:nvPr/>
        </p:nvSpPr>
        <p:spPr>
          <a:xfrm>
            <a:off x="2122560" y="643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Ronilva de Araújo Pereir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aixaDeTexto 5"/>
          <p:cNvSpPr/>
          <p:nvPr/>
        </p:nvSpPr>
        <p:spPr>
          <a:xfrm>
            <a:off x="2286000" y="5357880"/>
            <a:ext cx="42861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4" descr=""/>
          <p:cNvPicPr/>
          <p:nvPr/>
        </p:nvPicPr>
        <p:blipFill>
          <a:blip r:embed="rId1"/>
          <a:stretch/>
        </p:blipFill>
        <p:spPr>
          <a:xfrm>
            <a:off x="6429240" y="5286240"/>
            <a:ext cx="1695600" cy="79056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9" descr=""/>
          <p:cNvPicPr/>
          <p:nvPr/>
        </p:nvPicPr>
        <p:blipFill>
          <a:blip r:embed="rId2"/>
          <a:stretch/>
        </p:blipFill>
        <p:spPr>
          <a:xfrm>
            <a:off x="214200" y="2000160"/>
            <a:ext cx="8643960" cy="18082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0" descr=""/>
          <p:cNvPicPr/>
          <p:nvPr/>
        </p:nvPicPr>
        <p:blipFill>
          <a:blip r:embed="rId3"/>
          <a:stretch/>
        </p:blipFill>
        <p:spPr>
          <a:xfrm>
            <a:off x="571680" y="4357800"/>
            <a:ext cx="3657600" cy="138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OBJETIVOS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394920" y="2203200"/>
            <a:ext cx="84978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70000"/>
              </a:lnSpc>
              <a:spcBef>
                <a:spcPts val="67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Arial"/>
              </a:rPr>
              <a:t>Apresentar alguns pontos que devem ser mudados para o bom andamento do trabalho na STE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0000"/>
              </a:lnSpc>
              <a:spcBef>
                <a:spcPts val="67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Arial"/>
              </a:rPr>
              <a:t>Apresentar as ações que foram desenvolvidas pelos professores multiplicadores (NTE – STE) no 1º semestre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0000"/>
              </a:lnSpc>
              <a:spcBef>
                <a:spcPts val="67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0000"/>
              </a:lnSpc>
              <a:spcBef>
                <a:spcPts val="67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Arial"/>
              </a:rPr>
              <a:t>Apresentar, analisar e refletir a respeito do uso da STE da escola no 1º semestre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0000"/>
              </a:lnSpc>
              <a:spcBef>
                <a:spcPts val="67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0000"/>
              </a:lnSpc>
              <a:spcBef>
                <a:spcPts val="67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Arial"/>
              </a:rPr>
              <a:t>Elaborar cronograma de ações dos professores da STE no 2º semestre para formação in loco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Espaço Reservado para Rodapé 3"/>
          <p:cNvSpPr/>
          <p:nvPr/>
        </p:nvSpPr>
        <p:spPr>
          <a:xfrm>
            <a:off x="2122560" y="643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Ronilva de Araújo Pereir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JUNH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Espaço Reservado para Rodapé 3"/>
          <p:cNvSpPr/>
          <p:nvPr/>
        </p:nvSpPr>
        <p:spPr>
          <a:xfrm>
            <a:off x="2122560" y="643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 Ronilva de Araújo Pereir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2" descr=""/>
          <p:cNvPicPr/>
          <p:nvPr/>
        </p:nvPicPr>
        <p:blipFill>
          <a:blip r:embed="rId1"/>
          <a:stretch/>
        </p:blipFill>
        <p:spPr>
          <a:xfrm>
            <a:off x="285840" y="2071800"/>
            <a:ext cx="8497800" cy="157320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3" descr=""/>
          <p:cNvPicPr/>
          <p:nvPr/>
        </p:nvPicPr>
        <p:blipFill>
          <a:blip r:embed="rId2"/>
          <a:stretch/>
        </p:blipFill>
        <p:spPr>
          <a:xfrm>
            <a:off x="1000080" y="4357800"/>
            <a:ext cx="3638520" cy="136188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4" descr=""/>
          <p:cNvPicPr/>
          <p:nvPr/>
        </p:nvPicPr>
        <p:blipFill>
          <a:blip r:embed="rId3"/>
          <a:stretch/>
        </p:blipFill>
        <p:spPr>
          <a:xfrm>
            <a:off x="6429240" y="5286240"/>
            <a:ext cx="169560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3- Identificação dos professores que usaram as tecnologias efetivamente no 1º semestre e os que não utilizaram e qual turno apresentou menos us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56760" y="1999800"/>
            <a:ext cx="8497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34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 u="sng">
                <a:solidFill>
                  <a:srgbClr val="000000"/>
                </a:solidFill>
                <a:uFillTx/>
                <a:latin typeface="Arial"/>
              </a:rPr>
              <a:t>Matuti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Nunca utilizaram: ( Sociologia’, Prod. Interativ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Mais utilizaram: (Português, Geografia, História,  Ciências, Química, Biologi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Média de aulas ociosas: 36,16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Média de aulas utilizadas: 63,83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 u="sng">
                <a:solidFill>
                  <a:srgbClr val="000000"/>
                </a:solidFill>
                <a:uFillTx/>
                <a:latin typeface="Arial"/>
              </a:rPr>
              <a:t>Vesperti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Nunca utilizaram: ( Produções Interativ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Mais utilizaram: (Língua Portuguesa, Ed. Física, História, Geografia, Língua Est., Artes, Matemátic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Média de aulas ociosas: 33,38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Média de aulas utilizadas: 66,62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 u="sng">
                <a:solidFill>
                  <a:srgbClr val="000000"/>
                </a:solidFill>
                <a:uFillTx/>
                <a:latin typeface="Arial"/>
              </a:rPr>
              <a:t>Noturn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Nunca utilizaram: ( Ed. Física, Língua Est., Ciênci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Mais utilizaram: (Artes, Geografia, Química, Física, Literatura, Matemática, História  e Filosofi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Média de aulas ociosas:  64,72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Média de aulas utilizadas:  35,28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Espaço Reservado para Rodapé 3"/>
          <p:cNvSpPr/>
          <p:nvPr/>
        </p:nvSpPr>
        <p:spPr>
          <a:xfrm>
            <a:off x="2122560" y="643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Ronilva de Araújo Pereira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CaixaDeTexto 4"/>
          <p:cNvSpPr/>
          <p:nvPr/>
        </p:nvSpPr>
        <p:spPr>
          <a:xfrm>
            <a:off x="5214960" y="3214800"/>
            <a:ext cx="3571920" cy="5806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Turno que apresentou menos uso: </a:t>
            </a:r>
            <a:r>
              <a:rPr b="0" lang="pt-BR" sz="1600" spc="-1" strike="noStrike" u="sng">
                <a:solidFill>
                  <a:srgbClr val="000000"/>
                </a:solidFill>
                <a:uFillTx/>
                <a:latin typeface="Arial"/>
              </a:rPr>
              <a:t>Notur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ALGUNS PONTOS PARA REFLETIR:</a:t>
            </a:r>
            <a:br>
              <a:rPr sz="40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394920" y="2203200"/>
            <a:ext cx="84978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70000"/>
              </a:lnSpc>
              <a:spcBef>
                <a:spcPts val="75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A comunicação entre PNTE e PSTE deve ser constante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70000"/>
              </a:lnSpc>
              <a:spcBef>
                <a:spcPts val="75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70000"/>
              </a:lnSpc>
              <a:spcBef>
                <a:spcPts val="75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Os e-mails devem ser lidos por todos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70000"/>
              </a:lnSpc>
              <a:spcBef>
                <a:spcPts val="75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70000"/>
              </a:lnSpc>
              <a:spcBef>
                <a:spcPts val="75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O MSN deve ficar ligado no período em que o Professor da STE estiver na sala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70000"/>
              </a:lnSpc>
              <a:spcBef>
                <a:spcPts val="75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70000"/>
              </a:lnSpc>
              <a:spcBef>
                <a:spcPts val="75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Os prazos deverão ser cumpridos, podendo ser alterado com justificativa prévia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5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Espaço Reservado para Rodapé 3"/>
          <p:cNvSpPr/>
          <p:nvPr/>
        </p:nvSpPr>
        <p:spPr>
          <a:xfrm>
            <a:off x="2122560" y="643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Ronilva de Araújo Pereir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394920" y="2203200"/>
            <a:ext cx="84978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Será responsabilizado o profissional que não cumprir com suas atribuições (professor do NTE, STE e professores regentes)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Será construído portfólio online das atividades desenvolvidas na STE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Todos os planos de aula dos professores deverão ser assinados pelo coordenador do turno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Espaço Reservado para Rodapé 3"/>
          <p:cNvSpPr/>
          <p:nvPr/>
        </p:nvSpPr>
        <p:spPr>
          <a:xfrm>
            <a:off x="2122560" y="643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Ronilva de Araújo Pereira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394920" y="2203200"/>
            <a:ext cx="84978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O professor com </a:t>
            </a:r>
            <a:r>
              <a:rPr b="0" lang="pt-BR" sz="3000" spc="-1" strike="noStrike">
                <a:solidFill>
                  <a:srgbClr val="66ff33"/>
                </a:solidFill>
                <a:latin typeface="Arial"/>
              </a:rPr>
              <a:t>20</a:t>
            </a: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 horas, disponibilizará </a:t>
            </a:r>
            <a:r>
              <a:rPr b="0" lang="pt-BR" sz="3000" spc="-1" strike="noStrike">
                <a:solidFill>
                  <a:srgbClr val="66ff33"/>
                </a:solidFill>
                <a:latin typeface="Arial"/>
              </a:rPr>
              <a:t>18</a:t>
            </a: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 aulas para ser usadas com professores e alunos e </a:t>
            </a:r>
            <a:r>
              <a:rPr b="0" lang="pt-BR" sz="3000" spc="-1" strike="noStrike">
                <a:solidFill>
                  <a:srgbClr val="66ff33"/>
                </a:solidFill>
                <a:latin typeface="Arial"/>
              </a:rPr>
              <a:t>4</a:t>
            </a: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 aulas para planejamento junto aos coordenadores e professores regentes e </a:t>
            </a:r>
            <a:r>
              <a:rPr b="0" lang="pt-BR" sz="3000" spc="-1" strike="noStrike">
                <a:solidFill>
                  <a:srgbClr val="66ff33"/>
                </a:solidFill>
                <a:latin typeface="Arial"/>
              </a:rPr>
              <a:t>2</a:t>
            </a: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 para pesquisa externa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O professor com </a:t>
            </a:r>
            <a:r>
              <a:rPr b="0" lang="pt-BR" sz="3000" spc="-1" strike="noStrike">
                <a:solidFill>
                  <a:srgbClr val="66ff33"/>
                </a:solidFill>
                <a:latin typeface="Arial"/>
              </a:rPr>
              <a:t>10</a:t>
            </a: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 horas disponibilizará </a:t>
            </a:r>
            <a:r>
              <a:rPr b="0" lang="pt-BR" sz="3000" spc="-1" strike="noStrike">
                <a:solidFill>
                  <a:srgbClr val="66ff33"/>
                </a:solidFill>
                <a:latin typeface="Arial"/>
              </a:rPr>
              <a:t>9</a:t>
            </a: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 aulas para ser usadas com professores e alunos e </a:t>
            </a:r>
            <a:r>
              <a:rPr b="0" lang="pt-BR" sz="3000" spc="-1" strike="noStrike">
                <a:solidFill>
                  <a:srgbClr val="66ff33"/>
                </a:solidFill>
                <a:latin typeface="Arial"/>
              </a:rPr>
              <a:t>2</a:t>
            </a: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 para planejamento junto à coordenação e professores regentes e </a:t>
            </a:r>
            <a:r>
              <a:rPr b="0" lang="pt-BR" sz="3000" spc="-1" strike="noStrike">
                <a:solidFill>
                  <a:srgbClr val="66ff33"/>
                </a:solidFill>
                <a:latin typeface="Arial"/>
              </a:rPr>
              <a:t>1</a:t>
            </a: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 para pesquisa externa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Espaço Reservado para Rodapé 3"/>
          <p:cNvSpPr/>
          <p:nvPr/>
        </p:nvSpPr>
        <p:spPr>
          <a:xfrm>
            <a:off x="2122560" y="643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Ronilva de Araújo Pereira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394920" y="2203200"/>
            <a:ext cx="84978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 quadro de planejamento mensal do professor da STE deverá se adequar ao horário de atividades do professor regente, acompanhado pelos coordenadore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ada professor da STE deve ser responsável pelo preenchimento do relatório de utilização de seu turn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 uso das mídias externa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Espaço Reservado para Rodapé 3"/>
          <p:cNvSpPr/>
          <p:nvPr/>
        </p:nvSpPr>
        <p:spPr>
          <a:xfrm>
            <a:off x="2122560" y="643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Ronilva de Araújo Pereir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Combinados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94920" y="2203200"/>
            <a:ext cx="84978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60000"/>
              </a:lnSpc>
              <a:spcBef>
                <a:spcPts val="45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45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 Quadro de PL do professor da STE de cada mês será elaborado e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omum acordo com a coordenação pedagógica e direção da escol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45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 envio do quadro de PL e relatório será até o 5º dia útil de cada mê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45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45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 turno que optar pelas aulas programadas, as mesmas deverão 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ncaminhadas ao NTE, no quadro de PL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45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60000"/>
              </a:lnSpc>
              <a:spcBef>
                <a:spcPts val="45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té o 10º dia útil de cada mês o Professor do NTE se reunirá com 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rofessores da STE para discutirem as ações desenvolvidas no mês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s previstas para o mês seguint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45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s planos de aula entregue pelos professores regentes devem esta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rganizados em pasta, de forma cronológica e de fácil acesso, poi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mensalmente o professor do NTE fará visita para conferir os relatório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Espaço Reservado para Rodapé 3"/>
          <p:cNvSpPr/>
          <p:nvPr/>
        </p:nvSpPr>
        <p:spPr>
          <a:xfrm>
            <a:off x="2122560" y="643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Ronilva de Araújo Pereir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394920" y="2203200"/>
            <a:ext cx="84978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60000"/>
              </a:lnSpc>
              <a:spcBef>
                <a:spcPts val="55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Não serão consideradas as aulas registradas sem 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6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plano do professor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6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60000"/>
              </a:lnSpc>
              <a:spcBef>
                <a:spcPts val="55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Cada plano deve conter no máximo 2 aulas, mais qu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6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isso é necessário projeto de ensino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6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60000"/>
              </a:lnSpc>
              <a:spcBef>
                <a:spcPts val="55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Será elaborado portfólio on-line das atividades desenvolvida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6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na STE para orientações pedagógicas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6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60000"/>
              </a:lnSpc>
              <a:spcBef>
                <a:spcPts val="55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Os prazos de atividades previstas, não justificadas e nã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6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cumpridas serão registradas em documento próprio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6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60000"/>
              </a:lnSpc>
              <a:spcBef>
                <a:spcPts val="55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As orientações serão feitas por e-mail ou pessoalmente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6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Espaço Reservado para Rodapé 3"/>
          <p:cNvSpPr/>
          <p:nvPr/>
        </p:nvSpPr>
        <p:spPr>
          <a:xfrm>
            <a:off x="2122560" y="643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Ronilva de Araújo Pereira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394920" y="2203200"/>
            <a:ext cx="84978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s professores que receberem capacitação e não mostrarem interesse em ser capacitados assumirão as responsabilidade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ada professor da STE se responsabilizará em fazer a relação dos professores que não utilizaram a STE no decorrer do mê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Espaço Reservado para Rodapé 3"/>
          <p:cNvSpPr/>
          <p:nvPr/>
        </p:nvSpPr>
        <p:spPr>
          <a:xfrm>
            <a:off x="2122560" y="643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Ronilva de Araújo Pereir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ffffff"/>
                </a:solidFill>
                <a:latin typeface="Arial"/>
              </a:rPr>
              <a:t>4 - Apresentar e discutir cronograma de ações NTE/STE para o 2º semestre de 2009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394920" y="2203200"/>
            <a:ext cx="84978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Cronograma de ação do P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Cronograma de ação do PS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Cronograma comple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Espaço Reservado para Rodapé 3"/>
          <p:cNvSpPr/>
          <p:nvPr/>
        </p:nvSpPr>
        <p:spPr>
          <a:xfrm>
            <a:off x="2122560" y="643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Ronilva de Araújo Pereir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ESTRUTURA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394920" y="2203200"/>
            <a:ext cx="84978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70000"/>
              </a:lnSpc>
              <a:spcBef>
                <a:spcPts val="624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Arial"/>
              </a:rPr>
              <a:t>1. Apresentar as ações previstas, executadas e a executar pelos professores do NTE e STE no 1º semestre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70000"/>
              </a:lnSpc>
              <a:spcBef>
                <a:spcPts val="624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70000"/>
              </a:lnSpc>
              <a:spcBef>
                <a:spcPts val="624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Arial"/>
              </a:rPr>
              <a:t>2. Apresentar a realidade de uso da STE nos meses de março – abril – maio e junho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70000"/>
              </a:lnSpc>
              <a:spcBef>
                <a:spcPts val="624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Arial"/>
              </a:rPr>
              <a:t>3. Identificar os professores que usaram as tecnologias efetivamente no 1º semestre e os que não utilizaram e qual turno apresentou menos uso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70000"/>
              </a:lnSpc>
              <a:spcBef>
                <a:spcPts val="624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70000"/>
              </a:lnSpc>
              <a:spcBef>
                <a:spcPts val="624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Arial"/>
              </a:rPr>
              <a:t>4. Apresentar e discutir cronograma de ações NTE/STE para o 2º semestre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24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Espaço Reservado para Rodapé 3"/>
          <p:cNvSpPr/>
          <p:nvPr/>
        </p:nvSpPr>
        <p:spPr>
          <a:xfrm>
            <a:off x="1763640" y="6408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Ronilva de Araújo Pereira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394920" y="2203200"/>
            <a:ext cx="84978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Consulte não a seus medos, mas a suas esperanças e sonhos. Pense não sobre suas frustrações, mas sobre seu potencial não usado. Preocupe-se não com o que você tentou e falhou, mas com aquilo que ainda é possível a você fazer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( Papa João XXIII 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Espaço Reservado para Rodapé 3"/>
          <p:cNvSpPr/>
          <p:nvPr/>
        </p:nvSpPr>
        <p:spPr>
          <a:xfrm>
            <a:off x="2122560" y="643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Ronilva de Araújo Pereir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CaixaDeTexto 4"/>
          <p:cNvSpPr/>
          <p:nvPr/>
        </p:nvSpPr>
        <p:spPr>
          <a:xfrm>
            <a:off x="928800" y="28584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400" spc="-1" strike="noStrike">
                <a:solidFill>
                  <a:srgbClr val="ffffff"/>
                </a:solidFill>
                <a:latin typeface="Arial"/>
              </a:rPr>
              <a:t>REFLEXÃO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42560" y="142920"/>
            <a:ext cx="705636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1. Ações previstas, executadas e a executar pelos professores da STE no 1º semestre de 2009.</a:t>
            </a:r>
            <a:br>
              <a:rPr sz="40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394920" y="2203200"/>
            <a:ext cx="84978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Cronograma do plano de ação - PS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Espaço Reservado para Rodapé 3"/>
          <p:cNvSpPr/>
          <p:nvPr/>
        </p:nvSpPr>
        <p:spPr>
          <a:xfrm>
            <a:off x="1692360" y="6408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Ronilva de Araújo Pereir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394920" y="2203200"/>
            <a:ext cx="84978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2. Realidade de uso da STE nos meses de março – abril – ma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Espaço Reservado para Rodapé 3"/>
          <p:cNvSpPr/>
          <p:nvPr/>
        </p:nvSpPr>
        <p:spPr>
          <a:xfrm>
            <a:off x="2122560" y="643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Ronilva de Araújo Pereir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MATUTIN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394920" y="2203200"/>
            <a:ext cx="84978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MARÇO, ABRIL, MAIO e JUNH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ROFESSORA PATRÍCIA BOGAZ TREVIS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Espaço Reservado para Rodapé 3"/>
          <p:cNvSpPr/>
          <p:nvPr/>
        </p:nvSpPr>
        <p:spPr>
          <a:xfrm>
            <a:off x="2122560" y="643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Ronilva de Araújo Pereira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-428760" y="2138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MARÇ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Espaço Reservado para Rodapé 3"/>
          <p:cNvSpPr/>
          <p:nvPr/>
        </p:nvSpPr>
        <p:spPr>
          <a:xfrm>
            <a:off x="2122560" y="643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Ronilva de Araújo Pereir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CaixaDeTexto 5"/>
          <p:cNvSpPr/>
          <p:nvPr/>
        </p:nvSpPr>
        <p:spPr>
          <a:xfrm>
            <a:off x="7072200" y="5286240"/>
            <a:ext cx="171468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CaixaDeTexto 11"/>
          <p:cNvSpPr/>
          <p:nvPr/>
        </p:nvSpPr>
        <p:spPr>
          <a:xfrm>
            <a:off x="6429240" y="5572080"/>
            <a:ext cx="35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7" descr=""/>
          <p:cNvPicPr/>
          <p:nvPr/>
        </p:nvPicPr>
        <p:blipFill>
          <a:blip r:embed="rId1"/>
          <a:stretch/>
        </p:blipFill>
        <p:spPr>
          <a:xfrm>
            <a:off x="7572240" y="5857920"/>
            <a:ext cx="1266840" cy="5904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"/>
          <p:cNvPicPr/>
          <p:nvPr/>
        </p:nvPicPr>
        <p:blipFill>
          <a:blip r:embed="rId2"/>
          <a:stretch/>
        </p:blipFill>
        <p:spPr>
          <a:xfrm>
            <a:off x="285840" y="2000160"/>
            <a:ext cx="8497800" cy="16495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1" descr=""/>
          <p:cNvPicPr/>
          <p:nvPr/>
        </p:nvPicPr>
        <p:blipFill>
          <a:blip r:embed="rId3"/>
          <a:stretch/>
        </p:blipFill>
        <p:spPr>
          <a:xfrm>
            <a:off x="785880" y="3786120"/>
            <a:ext cx="4333680" cy="1666800"/>
          </a:xfrm>
          <a:prstGeom prst="rect">
            <a:avLst/>
          </a:prstGeom>
          <a:ln w="0">
            <a:noFill/>
          </a:ln>
        </p:spPr>
      </p:pic>
      <p:sp>
        <p:nvSpPr>
          <p:cNvPr id="109" name="Conector reto 20"/>
          <p:cNvSpPr/>
          <p:nvPr/>
        </p:nvSpPr>
        <p:spPr>
          <a:xfrm flipH="1">
            <a:off x="783720" y="3787920"/>
            <a:ext cx="1800" cy="164304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ABRI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Espaço Reservado para Rodapé 3"/>
          <p:cNvSpPr/>
          <p:nvPr/>
        </p:nvSpPr>
        <p:spPr>
          <a:xfrm>
            <a:off x="2122560" y="643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Ronilva de Araújo Pereira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7" descr=""/>
          <p:cNvPicPr/>
          <p:nvPr/>
        </p:nvPicPr>
        <p:blipFill>
          <a:blip r:embed="rId1"/>
          <a:stretch/>
        </p:blipFill>
        <p:spPr>
          <a:xfrm>
            <a:off x="6715080" y="5214960"/>
            <a:ext cx="1695600" cy="7905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8" descr=""/>
          <p:cNvPicPr/>
          <p:nvPr/>
        </p:nvPicPr>
        <p:blipFill>
          <a:blip r:embed="rId2"/>
          <a:stretch/>
        </p:blipFill>
        <p:spPr>
          <a:xfrm>
            <a:off x="314280" y="2041560"/>
            <a:ext cx="8615520" cy="18874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9" descr=""/>
          <p:cNvPicPr/>
          <p:nvPr/>
        </p:nvPicPr>
        <p:blipFill>
          <a:blip r:embed="rId3"/>
          <a:stretch/>
        </p:blipFill>
        <p:spPr>
          <a:xfrm>
            <a:off x="1285920" y="4357800"/>
            <a:ext cx="3600360" cy="134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MAI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Espaço Reservado para Rodapé 3"/>
          <p:cNvSpPr/>
          <p:nvPr/>
        </p:nvSpPr>
        <p:spPr>
          <a:xfrm>
            <a:off x="2122560" y="6435720"/>
            <a:ext cx="5257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a Multiplicadora Ronilva de Araújo Pereira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CaixaDeTexto 5"/>
          <p:cNvSpPr/>
          <p:nvPr/>
        </p:nvSpPr>
        <p:spPr>
          <a:xfrm>
            <a:off x="1071720" y="5072040"/>
            <a:ext cx="39290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7" descr=""/>
          <p:cNvPicPr/>
          <p:nvPr/>
        </p:nvPicPr>
        <p:blipFill>
          <a:blip r:embed="rId1"/>
          <a:stretch/>
        </p:blipFill>
        <p:spPr>
          <a:xfrm>
            <a:off x="6643800" y="5286240"/>
            <a:ext cx="1695240" cy="7905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9" descr=""/>
          <p:cNvPicPr/>
          <p:nvPr/>
        </p:nvPicPr>
        <p:blipFill>
          <a:blip r:embed="rId2"/>
          <a:stretch/>
        </p:blipFill>
        <p:spPr>
          <a:xfrm>
            <a:off x="285840" y="2286000"/>
            <a:ext cx="8858160" cy="19987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0" descr=""/>
          <p:cNvPicPr/>
          <p:nvPr/>
        </p:nvPicPr>
        <p:blipFill>
          <a:blip r:embed="rId3"/>
          <a:stretch/>
        </p:blipFill>
        <p:spPr>
          <a:xfrm>
            <a:off x="642960" y="4572000"/>
            <a:ext cx="3610080" cy="14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9T14:15:31Z</dcterms:created>
  <dc:creator>Luciana Catarino</dc:creator>
  <dc:description/>
  <dc:language>en-US</dc:language>
  <cp:lastModifiedBy>RONILVA</cp:lastModifiedBy>
  <dcterms:modified xsi:type="dcterms:W3CDTF">2009-07-30T18:31:18Z</dcterms:modified>
  <cp:revision>78</cp:revision>
  <dc:subject/>
  <dc:title>EE LUIZ SOARES ANDRADE  NOVA ANDRADINA - MS</dc:title>
</cp:coreProperties>
</file>